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9.png" ContentType="image/png"/>
  <Override PartName="/ppt/media/image22.jpeg" ContentType="image/jpeg"/>
  <Override PartName="/ppt/media/image7.png" ContentType="image/png"/>
  <Override PartName="/ppt/media/image5.png" ContentType="image/png"/>
  <Override PartName="/ppt/media/image10.jpeg" ContentType="image/jpeg"/>
  <Override PartName="/ppt/media/image29.jpeg" ContentType="image/jpeg"/>
  <Override PartName="/ppt/media/LASER.WAV" ContentType="audio/x-wav"/>
  <Override PartName="/ppt/media/image6.png" ContentType="image/png"/>
  <Override PartName="/ppt/media/image14.jpeg" ContentType="image/jpeg"/>
  <Override PartName="/ppt/media/image8.png" ContentType="image/png"/>
  <Override PartName="/ppt/media/image26.jpeg" ContentType="image/jpeg"/>
  <Override PartName="/ppt/media/image27.jpeg" ContentType="image/jpeg"/>
  <Override PartName="/ppt/media/image28.jpeg" ContentType="image/jpeg"/>
  <Override PartName="/ppt/media/image2.png" ContentType="image/png"/>
  <Override PartName="/ppt/media/image25.jpeg" ContentType="image/jpeg"/>
  <Override PartName="/ppt/media/image3.jpeg" ContentType="image/jpeg"/>
  <Override PartName="/ppt/media/image24.jpeg" ContentType="image/jpeg"/>
  <Override PartName="/ppt/media/WHOOSH.WAV" ContentType="audio/x-wav"/>
  <Override PartName="/ppt/media/image1.png" ContentType="image/png"/>
  <Override PartName="/ppt/media/image11.jpeg" ContentType="image/jpeg"/>
  <Override PartName="/ppt/media/image4.png" ContentType="image/png"/>
  <Override PartName="/ppt/media/image12.jpeg" ContentType="image/jpeg"/>
  <Override PartName="/ppt/media/image13.jpeg" ContentType="image/jpeg"/>
  <Override PartName="/ppt/media/image15.jpeg" ContentType="image/jpeg"/>
  <Override PartName="/ppt/media/image16.jpeg" ContentType="image/jpeg"/>
  <Override PartName="/ppt/media/CARBRAKE.WAV" ContentType="audio/x-wav"/>
  <Override PartName="/ppt/media/CAMERA.WAV" ContentType="audio/x-wav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FE9B-50F7-40C0-BEAF-21E5EA647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DFEA-57CD-41D4-B403-7473D0035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E8A1-600E-459C-B1EC-CE9800519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85F2-CDB0-4993-9B42-9ED5D5CF0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611F1-E616-4DD5-AD62-204F5E1DC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51E12-B189-4281-AC77-63E3CC3BE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F2E5B-E427-4FF6-A533-23DA9236A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38B71-83AC-4579-82D1-E9E1935C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F3D57-BF0F-41AC-9F36-AAC3163B9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EE3FD-4B4D-4003-AF06-9BC4F630C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36AE2-C410-4F79-85C6-E311AFDA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8AAA-2161-452C-B9CC-5B4C3A70C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8402A-A678-41D2-839B-FE85487A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7865F-2C17-45D9-B0C4-9F3B1E0D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72ACB-B64E-4DFA-B9E5-460B5A5D2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B86E2-0FC9-47B4-8538-75E8DAF49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E2C43-3430-4F5C-B89D-98FF5B517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4E14-EE59-4810-B86A-C27DA829B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036C-F12C-4E04-95AF-EFF3EAD1D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D0A7-A423-4F06-B5F5-26CDFAE89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49D4-C714-4676-9459-5DD2A0E6A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26EA-ABCA-4AB8-A477-1474893A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8CAA-E0DC-462C-8F0B-4C708461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6450-BB3E-4404-8694-67C676E6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5012F-C921-4A90-AC68-AF2610B4B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831B4-470D-49FF-9EB4-AA830C32C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ex-Linked Trai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8107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Basic Differences Between X and Y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13540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Y chromosome is much SHORTER than the X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, it cannot hold as many GENES on it as X c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4114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3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8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239920" y="457200"/>
            <a:ext cx="56386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lorblindness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10 million American men - fully 7 percent of the male population - either cannot distinguish RED from GREEN, or see red and green differently from most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he most common form of color blindness, but it affects only 4 percent of wom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Why are so many MEN color-blind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blindness is so prevalent in men because it is carried on the X chromos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 only have 1 copy of the X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733920" y="990720"/>
            <a:ext cx="52117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75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75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173240" y="456840"/>
            <a:ext cx="7772400" cy="56386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990720" y="0"/>
            <a:ext cx="815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897280" y="0"/>
            <a:ext cx="4322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173240" y="456840"/>
            <a:ext cx="7772400" cy="56386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2590920" y="990720"/>
            <a:ext cx="49528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173240" y="456840"/>
            <a:ext cx="7772400" cy="56386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600200" y="762120"/>
            <a:ext cx="63244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173240" y="456840"/>
            <a:ext cx="7772400" cy="56386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959200" y="614520"/>
            <a:ext cx="3225600" cy="56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173240" y="456840"/>
            <a:ext cx="7772400" cy="56386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2457360" y="728640"/>
            <a:ext cx="422928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ex-Linked Diseases you will understand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blind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mophi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cular Dystr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lor vision comes in 3 colors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, green, and bl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azingly, we are all born colorblind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es don’t begin to function until a baby is about 4 months 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than 95% of all variations in human color vision involve the red and green receptors in men’s e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very rare for anyone - male or female - to be “blind” to the blue end of the spectr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173240" y="1012680"/>
            <a:ext cx="7772400" cy="45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lorblind tests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ldren are usually tested at 4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-green colorblindness is a RECESSIVE condition passed on the X chromosom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girls whose fathers are colorblind will at least CARRY the gene for colorblind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rder for a girl to actually be red-green colorblind, she must have a mother who is a carrier AND a father who is colorblind. (0.64% of American gir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Times New Roman"/>
              </a:rPr>
              <a:t>ISHIHARA TEST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: What numbers do you see revealed in the pattern of dots below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17324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2057400" y="1752480"/>
            <a:ext cx="54864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173240" y="456840"/>
            <a:ext cx="7772400" cy="56386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828800" y="533520"/>
            <a:ext cx="6324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173240" y="456840"/>
            <a:ext cx="7772400" cy="56386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1981080" y="457200"/>
            <a:ext cx="56390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173240" y="456840"/>
            <a:ext cx="7772400" cy="563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2133720" y="457200"/>
            <a:ext cx="5410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173240" y="456840"/>
            <a:ext cx="7772400" cy="56386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2057400" y="609480"/>
            <a:ext cx="58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523880" y="457200"/>
            <a:ext cx="59436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173240" y="456840"/>
            <a:ext cx="7772400" cy="56386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905120" y="457200"/>
            <a:ext cx="60195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hromosome Review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79246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173240" y="456840"/>
            <a:ext cx="7772400" cy="56386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2133720" y="533520"/>
            <a:ext cx="58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239920" y="457200"/>
            <a:ext cx="56386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239920" y="457200"/>
            <a:ext cx="56386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173240" y="1981080"/>
            <a:ext cx="7772400" cy="487692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NORMAL VISION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173240" y="677880"/>
            <a:ext cx="77724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173240" y="677880"/>
            <a:ext cx="77724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8229600" cy="601992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NORMAL VISION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479600" y="457200"/>
            <a:ext cx="71596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479600" y="457200"/>
            <a:ext cx="71596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38080" y="0"/>
            <a:ext cx="8305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9514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36800" y="0"/>
            <a:ext cx="8107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 are the individual units found on each chromosome that determine hereditary tra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body cell has ____ chromos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egg or sperm has ___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means that there are ____ PAIRS of chromosomes in normal body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ex Chromosomes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______ sex chromoso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and a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3540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EM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_____ sex chromoso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and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75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75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75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75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75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75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3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3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3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3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3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3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Basic Chromosome Differences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and Y are called “SEX” chromoso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3540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ther 22 pairs of chromosomes are called “BODY” chromosomes or AUTOSO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ex-linked traits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9144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only men inherit Y chromosomes, they are the only ones to inherit Y-linked trait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 and women can both get the X-linked ones since they both inherit X chromoso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women, a recessive gene on one X chromosome is often covered up in phenotype by a dominant gene on the other 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explains why women are usually carriers of X-linked traits, but rarely ever get them themsel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8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X-Linked GENES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5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humans, at leas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32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enes are x-lin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includ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MOPHI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-GREEN COLORBLIND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GENITAL NIGHT BLIND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CHENNE MUSCULAR DYSTROPH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6T14:00:24Z</dcterms:created>
  <dc:creator>System Operations</dc:creator>
  <dc:description/>
  <dc:language>en-US</dc:language>
  <cp:lastModifiedBy>me</cp:lastModifiedBy>
  <dcterms:modified xsi:type="dcterms:W3CDTF">2007-04-03T19:32:06Z</dcterms:modified>
  <cp:revision>38</cp:revision>
  <dc:subject/>
  <dc:title>Sex-Linked Traits</dc:title>
</cp:coreProperties>
</file>